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4A7-1135-4DDF-AE34-FB287BDF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808-2A6C-47BF-A3C9-DEA97FC8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632-A96C-4B36-8D5A-4A285E9A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817-7D47-4843-B0FA-94DB99FD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5FB-0D41-4FD1-9D6E-3486037C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63D-C2AB-4B50-B0DB-2FA9D953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61C-703D-45EC-80D0-174EC7DE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730-7DD9-4A50-BA3A-5D267FBB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6D5-07DF-4F00-9893-9CB8FEC0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831-2ADB-4BB3-B395-BEF213CE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CFE-93E8-452C-8A25-CFB26226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EB9-43C7-48D0-BB75-F0CED32F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EBCD-4994-4B40-99E4-78B85B982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19040" y="244620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1440" y="301608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71760" y="24336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3880" y="33321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0240" y="18381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 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22640" y="1106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68960" y="2643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6529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49400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494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58128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2933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293544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on to be 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77328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773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22147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2214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04-24T17:36:33Z</dcterms:modified>
  <cp:revision>47</cp:revision>
  <dc:subject/>
  <dc:title>Présentation PowerPoint</dc:title>
</cp:coreProperties>
</file>