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6825-F9CE-4482-AF39-9811C647A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242B-821A-4568-AA24-2ACD7EC2B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230F-AFEE-422F-93EE-8AEB6509A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92E6-A37D-47EA-9FC0-788CE2DAC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6D2A-E1EE-483B-B775-70D4FDC29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625E-91DE-40D6-8130-E25A269EF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D846-296D-4371-94F3-256A2E5BE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2FA3-B1D7-40E0-8E67-E3C060078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3755-533F-4D76-95BB-C5FE11E0C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FC8C-EDB2-4995-945C-A2AC9611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A659-B03E-42B7-82BA-87C5230C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A5D8-F6E0-4474-A310-776D914B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CFA65-808F-4619-969B-9E8AB886BF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YY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YY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4572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16002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6002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42864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812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44756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0020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1-08-04T14:22:55Z</dcterms:modified>
  <cp:revision>6</cp:revision>
  <dc:subject/>
  <dc:title>Présentation PowerPoint</dc:title>
</cp:coreProperties>
</file>