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FB9E-D489-49A8-B6E5-926852C3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BFB-5A9F-42A8-8651-B0413831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1EA-A856-402A-8210-A97CEC8D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C11-6263-49E7-9FF8-72EAE1FC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8A4-F440-4D6A-8322-F537667F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26D-6B05-4654-9F2F-5D9CC1CD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C54-8933-4EEA-8E42-7AC72C29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F53-2FBE-4BDA-B4D3-17FA4316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425-EB0C-47EC-B15B-DACC7892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519-D9DB-476E-BF18-63A75AAC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4A7-A29D-4EE8-8513-CF144CFD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4A2-FD19-4AFD-9B8D-5E58E1AA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F193-E4BE-41F9-B0A3-CB33A4BAA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17:06Z</dcterms:modified>
  <cp:revision>4</cp:revision>
  <dc:subject/>
  <dc:title>Présentation PowerPoint</dc:title>
</cp:coreProperties>
</file>